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4E1-D3D7-4280-B1BD-37281CF9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9F0-711A-447F-AA9D-8A933DDC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0E8-FDDC-47A0-A7C9-F69E8491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3F4-E69B-4018-9EAE-EB7B199B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A4BA-8C89-4850-99AC-5F4E06A6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8F99-9F6A-4791-9244-C74E07A4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8178-B490-4E79-8480-232FA83F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85CE-D632-4A0E-BD79-B81103B8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7B6B-B233-4C98-8C8F-DE48FF77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E953-1B8B-4309-9C03-331296D2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89D0-A577-40ED-9550-F7A59230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FDD-C381-4CFA-B438-B4C6F0D3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F3FC-C2F6-46E0-AA5E-9E41B702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0B54-B8B8-4CB8-B68B-6F95635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8DBB-5547-4ED6-B833-54E62606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E0D1-2B49-4A73-B967-DD4F5E8B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AD9F-C738-4080-9BC7-AB22FE82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B38-457F-404D-9695-5BC49147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5BC-7289-4EB9-9B99-E3D30E70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D7A-F9E1-4DB1-B06A-5EE56976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587-11D7-46BD-B24E-D7ADC92C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F34-56E2-4308-97A0-4485646B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428-5408-4482-854E-6C87806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979-DFBE-4C4B-99E7-3C19CF36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4FBF-FD67-4F91-9965-F99CC4CC1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9673-4A19-4B2D-BB32-9605E25BE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La Casa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: La Se</a:t>
            </a:r>
            <a:r>
              <a:rPr b="0" lang="es-NI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 Rous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a Cas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a casa muy grande y eleg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05b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 una cocina.  La cocina es nueva y bon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85880" y="2133720"/>
            <a:ext cx="44244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medor es muy lujoso y mod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09680" y="2128680"/>
            <a:ext cx="5562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ala es muy grande y luj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4267440" cy="2895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l Ba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ñ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b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es muy nuevo y gran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0" y="2459160"/>
            <a:ext cx="502920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uarto es muy grande, lujoso, y bon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220000" cy="387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atio es pe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ero mod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5105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El Jard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  <a:ea typeface="Times New Roman"/>
              </a:rPr>
              <a:t>í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jardin es precio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350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9d79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7:08:08Z</dcterms:created>
  <dc:creator>erousseau</dc:creator>
  <dc:description/>
  <dc:language>en-US</dc:language>
  <cp:lastModifiedBy>erousseau</cp:lastModifiedBy>
  <dcterms:modified xsi:type="dcterms:W3CDTF">2011-03-25T17:52:21Z</dcterms:modified>
  <cp:revision>8</cp:revision>
  <dc:subject/>
  <dc:title>La Casa</dc:title>
</cp:coreProperties>
</file>